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E342-8BBB-41A6-A5F7-69B8821B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FB86-4A52-49E8-9615-1F6148AD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2C9-F406-4B95-A9EC-EF12FB2F4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328F-60B9-4BCD-A9A6-E4D01222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B0F9-6E16-434B-9BC0-F62A304D5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5DA-F4DD-4083-8CD1-AB561860D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13A-0E21-40D4-BD9C-FABB00E1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31E-9779-4291-BF4F-8ABD80DE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15C-DF2D-465B-9910-311293B67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4E6-B424-4090-9087-A365517E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C540-F411-4CE0-B748-AD147994F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58F6-E80F-4B9F-B044-5CAB060B5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6007-B552-4713-8523-DEE58DE0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966-D23A-4C34-A9B0-E9A2A95F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0D9-F38B-4407-849A-94ACF918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CBD-5053-4202-8541-2D85013D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554-4EFB-4CE5-9949-0B975E03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1A64-D6E1-4994-B4E7-A55310D8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99BA-F634-43DE-9B47-995305CC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AD8A-0DDD-4C55-B424-A260031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BC48-C5EE-4C71-83F5-6A381B6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4AAE-1549-4B0E-B327-B916AE2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DC69-AD08-4ED0-BF58-852C850D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2C9D-43C5-420A-B210-1B774A84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E13-9013-495F-BD20-99535F3B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9E0E-BDE7-4E8C-8268-DA13261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4E3A-A527-418A-8A9D-5F875C45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738-5860-4183-8179-D8E5EC9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46E3-D949-439C-ADA7-03A2EE23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D818-38C7-4D3A-BA35-8C7AEF8D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690-8390-4C3E-846D-346D9F52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F1A-D1FB-407E-A38E-81E4F64A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813-A2C1-4AD6-8DCB-88B3FB3C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93E-9716-4418-9C18-84A76432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BD5-EC34-4DB4-AA67-4ADBFDA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648-80F0-4BE4-A1FD-811AD78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821-1131-47D5-8389-CFF90758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3AF5-FAFA-4E93-AD33-C6316F334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300D-7E66-4883-8501-EEB5A8147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Unit+9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7960" y="228600"/>
            <a:ext cx="426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114 Unit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4640" y="2819520"/>
            <a:ext cx="2438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lcome! Our seminar will begin at 8: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C4B0-7129-4A52-8F72-B73D2D3A07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Trip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ou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ick on Uni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he video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aget’s Preoperational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was interesting about the reaction of the chi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lick on the artic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gnitive Development in the PreSchoo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are some implications for us as we design educational environments for this children as we think about the 6 critical concepts mentioned in the arti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rticle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gnitive Develop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bottom of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ould this information be useful to parents? How might you share with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8031-18C9-4BA4-B5F5-5FB65CDFEC8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honemic awareness:  individual sounds are used to creat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honemes:  children can be taught to listen for sounds in words and that words are made up of the smallest parts of sou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honics:  understanding relationships between sound and written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U.S. Department of Education, 2007)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B2E-BE18-40DA-9B25-5DA8CCF476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s make wor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hildren need to be taught the sounds individual printed letters and groups of letters m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Knowing the relationships between letters and sounds helps children to recognize familiar words accurately and automatically, and “decode” new w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U.S. Department of Education, 2007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D584-478F-44FC-A70D-B7BD2A4E3D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 and 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Vocabulary development:  teach children the meaning of words and how they are pronounced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uild on the child’s understanding of the written or spoken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each children how to use the words that they kno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mprehension strategies: teach children to remember what they have read or heard read to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U.S. Department of Education, 2007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5BD-1F2E-4DEC-9629-D9868A97BF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aget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Hands-on, concrete objects, and sensorimot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Vygotsky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Zone of Proxim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Gardner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 Multipl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Erikson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 Stages of Development.  Our 4 and five year olds are in the initiative versus guilt stage.  Positive interactions help to develop good self-esteem in the child of this age.  Negative ones give the child a distorted picture of himse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Black &amp; Puckett, 200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F61F-FA2B-4C53-8A6D-4BD3BAF0D8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520" y="25146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time is about over for tonight. I have enjoyed our time together and hope that you have a great 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BB6-4FB2-488A-AF90-FA258F8D5D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39174637_thm.jpg"/>
          <p:cNvPicPr/>
          <p:nvPr/>
        </p:nvPicPr>
        <p:blipFill>
          <a:blip r:embed="rId1"/>
          <a:stretch/>
        </p:blipFill>
        <p:spPr>
          <a:xfrm>
            <a:off x="4572000" y="2209680"/>
            <a:ext cx="390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Black, J.K., &amp; Puckett, M.P., (2005).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young child: Development from prebirth through age eight.  Fourth Edition.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Upper Saddle River, NJ:  Pearson Education, 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Jupiter Images Corporation, (2007). 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Clipart.com.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etrieved August 28, 2007 from website: http://www.clipa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Lightenberg, B.K., &amp; Troutman, A.,  (1995). 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Mathematics a good beginning: strategies for teaching children.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Pacific Grove, CA: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Brooks Cole Publishing Compan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U.S. Department of Education (2007). 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Educational Partnerships and Family Involvement Unit.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etrieved August 23, 2007 from website: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 ed.gov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EEF6-EF21-429A-A67A-D0778EF90D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night’s Qu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1371240"/>
            <a:ext cx="5486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iscover more about a person in an hour of play than in a year of conversatio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6C75-815F-45F9-94F0-CD8CB8E0E6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ject deadline – November 23 (end of Unit 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 fo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Unit 9 and watch Project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o seminar –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4F2A-E242-4508-94AD-E25C0DEB62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296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ersity and Individual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Encourage positive self-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ovide opportunities for discovery of cultural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omote social skills including perspective taking, communicating, and conflict re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each lessons using multi-cultural curricul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(Black &amp; Puckett, 2005, p. 366).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9F46-0A53-4175-8444-E330D3B55E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en’s Pattern of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nlooker play:  the child observes others play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litary play: the child participates in a different activity without the involvement of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(Black &amp; Puckett, 2005, p. 367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867B-6007-4F7E-A975-40F8E1BF00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02960"/>
            <a:ext cx="73152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Play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arallel play: the child plays in a like activity without the involvement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ssociative play:  the child plays, talks about the activity, but does not allow other play goals to override his go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(Black &amp; Puckett, 2005, p. 36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616-104E-4F7A-A787-1AD3DAF0F8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33376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ooperative play: the child plays, cooperates, and works out assigned role in mutual agreement with other children concerning shared goals and the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698-2FBC-4F3A-9FC6-DE76614DD1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746440" y="586728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lack &amp; Puckett, 2005, p. 36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02960"/>
            <a:ext cx="73152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of play in Languag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ociodramatic play:  the child’s attempt to integrate social knowledge into role play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crete objects are significant props in play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etacommunication: the child uses his or her cognitive skills to plan, reconstruct, and talk about play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(Black &amp; Puckett, 2005, p. 406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91A-F289-4705-BB24-60BF3A2169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Pre-number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evelop pre-number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iscovering relationships between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servation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ore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umbers hav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unting (Lightenberg &amp; Troutman, 199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7DB-D332-41C2-9588-B9A4660FE8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9:16:54Z</dcterms:created>
  <dc:creator>Verlinda Ruble</dc:creator>
  <dc:description/>
  <dc:language>en-US</dc:language>
  <cp:lastModifiedBy>Joyce Jones</cp:lastModifiedBy>
  <dcterms:modified xsi:type="dcterms:W3CDTF">2010-11-11T17:47:26Z</dcterms:modified>
  <cp:revision>37</cp:revision>
  <dc:subject/>
  <dc:title>Slide 1</dc:title>
</cp:coreProperties>
</file>